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F0A-A89A-4230-8A73-F92C8CA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56F-B941-49A1-AAD4-1ABE247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C8F-DF8A-4768-A133-FE6E4F74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158-78DB-4082-8B57-ECF0153C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A55-E1AF-421D-99E1-BA040C1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C79-6AD2-433D-A4C1-9EB6666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840-3E31-413D-8284-191F896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73E-C00D-4911-BA75-134B222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F03-A422-43D6-B736-78587D2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6C4-F310-4741-92C0-041EBADC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63F-DC7E-4991-A116-1F40FDC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C99-D330-4B01-9227-728450A6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9EC7-0D94-4E30-832E-7443A57A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0/MacedonEmpire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Alexander_and_Aristotl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3/Map_Macedonia_336_BC-en.sv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omic"/>
              </a:rPr>
              <a:t>Alexander the Great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έγας Ἀλέξανδρος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“Conquerer of the world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2990880" cy="3733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05320" y="2743200"/>
            <a:ext cx="2381040" cy="3009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51600" y="2057400"/>
            <a:ext cx="30924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Persians round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ing Egypt in 331 BC, Alexander marched eastward into Mesopotamia ( N. Ir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ated Darius once more at 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Gaugamel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people today still study this battle of Alexander'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attle between Alexander and Darius th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lowed Alexander to enter the Persian empire and start hi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pon their 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95680" y="3605040"/>
            <a:ext cx="4648320" cy="325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751800" y="0"/>
            <a:ext cx="2392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ile:Battle of Gaugamela, 331 BC - Opening movements.gif"/>
          <p:cNvPicPr/>
          <p:nvPr/>
        </p:nvPicPr>
        <p:blipFill>
          <a:blip r:embed="rId2"/>
          <a:stretch/>
        </p:blipFill>
        <p:spPr>
          <a:xfrm>
            <a:off x="0" y="0"/>
            <a:ext cx="5867280" cy="445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e:Battle gaugamela decisive.gif"/>
          <p:cNvPicPr/>
          <p:nvPr/>
        </p:nvPicPr>
        <p:blipFill>
          <a:blip r:embed="rId3"/>
          <a:stretch/>
        </p:blipFill>
        <p:spPr>
          <a:xfrm>
            <a:off x="4419720" y="3048120"/>
            <a:ext cx="4724280" cy="358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4191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Indian Con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nter of 327/326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attle of fort of Massaga Alexander was seriously wounded in the leg/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the Hydas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326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wanted to go further into India but the army was starting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back to Babylon, started planning assault on Arab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ets planned, Dies on june 10/11 323 BCE from malaria or typhoid fe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File:MacedonEmpir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Who was this guy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cedon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urth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Greek city state. Born a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6 BCE in P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’s teacher was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risto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hillip th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d united the mainland Greece with diplomatic and military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took control when father was assassinated in 336. How old wa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ecuted all potential heirs to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 had Cleopatra Eurydice and her daughter by Philip, Europa, burned alive. Alexander had to kill Attalus (her fa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609480"/>
            <a:ext cx="3124080" cy="1981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1447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79096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ile:Map Macedonia 336 BC-en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Greek Con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fathers death city-states rebelled/revo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bes, Athens, Thessaly, and the Thra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bes to the north of Macedon first to re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bes revolted twice (beginning &amp; northern campaign) after second time people really fear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nquering Greece he moved on to battle Persia and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King Darius th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onquest of Pers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fighting in 334 BCE, 2 years after papa’s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,100 soldiers, 6100 cavalry and a fleet of 120 ships with crews numbering 38,000,drawn from Macedon and various Greek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enied Pers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val bases, why would Alexander want to do th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attle of Is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exander took on Darius the III (Darius wimped out and ra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destroyed the main Persian ar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I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6248520"/>
            <a:ext cx="46479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of faun in Pompe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File:Battle of Issus.jpg"/>
          <p:cNvPicPr/>
          <p:nvPr/>
        </p:nvPicPr>
        <p:blipFill>
          <a:blip r:embed="rId2"/>
          <a:stretch/>
        </p:blipFill>
        <p:spPr>
          <a:xfrm>
            <a:off x="152280" y="1066680"/>
            <a:ext cx="86868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onquest of Egy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advanced on Egypt in later 332 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regarded as a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ibe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at Gaza took a siege to defeat. Because they resisted, they got the same treatment as Tr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usalem opened it’s doors, because of book of Dani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ander often referred to Zeus-Ammon as his true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the city of Alexa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ile:Name of Alexander the Great in Hieroglyphs circa 330 BCE.jpg"/>
          <p:cNvPicPr/>
          <p:nvPr/>
        </p:nvPicPr>
        <p:blipFill>
          <a:blip r:embed="rId2"/>
          <a:stretch/>
        </p:blipFill>
        <p:spPr>
          <a:xfrm>
            <a:off x="0" y="0"/>
            <a:ext cx="5867280" cy="4091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832360" y="2590920"/>
            <a:ext cx="3311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6201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51:08Z</dcterms:created>
  <dc:creator>jobert</dc:creator>
  <dc:description/>
  <dc:language>en-US</dc:language>
  <cp:lastModifiedBy>jobert</cp:lastModifiedBy>
  <dcterms:modified xsi:type="dcterms:W3CDTF">2014-03-31T15:55:29Z</dcterms:modified>
  <cp:revision>4</cp:revision>
  <dc:subject/>
  <dc:title>Alexander the Great “Conquer of the world”</dc:title>
</cp:coreProperties>
</file>